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0FCE-67F3-4E6D-975D-A1BF5ED9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EA8-034E-4142-9C19-E2C21C50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634A-801B-42E7-B6A1-460F6266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10F0-673E-43B5-B280-8A4E0091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EF9D-46DB-4222-AA8C-427E74CF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5D3C-86B0-4951-BC3F-FF374517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7418-B006-4308-A468-11865315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8F17-6A25-4E2B-9242-DF28D0E1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43B0-3D55-42EF-AA0E-FB1FBC74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B91F-9DC3-479A-AB71-A270BF1B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B6CC-1E2C-4C0A-950F-D205B291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047C-D359-4E55-8935-4CD3DAE4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66D8-8523-4E93-A0D2-AD262C5F4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artspeakout.org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www.adriennesloane.com/homepage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hyperlink" Target="http://www.adriennesloane.com/homepage.html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fcit.coedu.usf.edu/holocaust/GALLFR2/DACB03.ht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fcit.coedu.usf.edu/holocaust/GALLFR2/DACB03.ht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ct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petr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www.goodart.org/abguard.jpg"/>
          <p:cNvPicPr/>
          <p:nvPr/>
        </p:nvPicPr>
        <p:blipFill>
          <a:blip r:embed="rId2"/>
          <a:stretch/>
        </p:blipFill>
        <p:spPr>
          <a:xfrm>
            <a:off x="5334120" y="0"/>
            <a:ext cx="3305160" cy="6093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"/>
          <p:cNvSpPr/>
          <p:nvPr/>
        </p:nvSpPr>
        <p:spPr>
          <a:xfrm>
            <a:off x="6071400" y="62485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rno Breker (Naz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3040" y="64882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goodart.org/artofnz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www.goodart.org/nzhorse.jpg"/>
          <p:cNvPicPr/>
          <p:nvPr/>
        </p:nvPicPr>
        <p:blipFill>
          <a:blip r:embed="rId2"/>
          <a:stretch/>
        </p:blipFill>
        <p:spPr>
          <a:xfrm>
            <a:off x="4419720" y="990720"/>
            <a:ext cx="3809880" cy="48290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"/>
          <p:cNvSpPr/>
          <p:nvPr/>
        </p:nvSpPr>
        <p:spPr>
          <a:xfrm>
            <a:off x="1150200" y="190512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Flag Bear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008360" y="251460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ubert Lanzinger (Naz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671360" y="624852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goodart.org/artofnz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www.turtletrack.org/Issues00/Co05202000/Art/ledger_3.jpg"/>
          <p:cNvPicPr/>
          <p:nvPr/>
        </p:nvPicPr>
        <p:blipFill>
          <a:blip r:embed="rId2"/>
          <a:stretch/>
        </p:blipFill>
        <p:spPr>
          <a:xfrm>
            <a:off x="2514600" y="533520"/>
            <a:ext cx="6004080" cy="4114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990720" y="624852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turtletrack.org/Issues00/Co05202000/CO_05202000_SandCreek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2743200" y="48006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dger Art by Cheyenne Prisoners at Fort Marion, Flori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800600" y="533520"/>
            <a:ext cx="3919680" cy="5410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50200" y="6172200"/>
            <a:ext cx="69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nquery.ushmm.org/uia-cgi/uia_doc/query/43?uf=uia_egTq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9907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 SS officers stopping customers from entering a Jewish sto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www.danielnpaul.com/scan_image/ChiefSittingBull.jpg"/>
          <p:cNvPicPr/>
          <p:nvPr/>
        </p:nvPicPr>
        <p:blipFill>
          <a:blip r:embed="rId2"/>
          <a:stretch/>
        </p:blipFill>
        <p:spPr>
          <a:xfrm>
            <a:off x="4419720" y="228600"/>
            <a:ext cx="4114800" cy="62006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228600" y="32767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urtesy of the Smithsonian, National Museum of the American Indi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04920" y="20574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Lakota Nation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hief Sitting Bull, Tatanka-Iyotanka,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1831-189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64882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danielnpaul.com/ChiefSittingBull-LakotaNation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eroes of the Suikoden"/>
          <p:cNvPicPr/>
          <p:nvPr/>
        </p:nvPicPr>
        <p:blipFill>
          <a:blip r:embed="rId2"/>
          <a:stretch/>
        </p:blipFill>
        <p:spPr>
          <a:xfrm>
            <a:off x="1523880" y="304920"/>
            <a:ext cx="16574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14800" y="304920"/>
            <a:ext cx="3946680" cy="5105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5800" y="6324480"/>
            <a:ext cx="776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inquery.ushmm.org/uia-cgi/uia_doc/query/27?uf=uia_egTqOR http://inquery.ushmm.org/uia-cgi/uia_doc/query/27?uf=uia_egTqO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1295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ster against Jewish murders in Hyde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523880" y="762120"/>
            <a:ext cx="6096240" cy="4524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97920" y="5638680"/>
            <a:ext cx="68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nquery.ushmm.org/uia-cgi/uia_doc/query/3?uf=uia_UxaRy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www.artspeakout.org/WeProtest/images/russel-steuart_j_no-word.jpg"/>
          <p:cNvPicPr/>
          <p:nvPr/>
        </p:nvPicPr>
        <p:blipFill>
          <a:blip r:embed="rId2"/>
          <a:stretch/>
        </p:blipFill>
        <p:spPr>
          <a:xfrm>
            <a:off x="3962520" y="685800"/>
            <a:ext cx="4076640" cy="54864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487692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Julie Russell-Steua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int, coll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48400" y="648828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artspeakout.org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ysta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772400" cy="4711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50200" y="5867280"/>
            <a:ext cx="69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nquery.ushmm.org/uia-cgi/uia_doc/query/28?uf=uia_egTq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086600" cy="4573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26520" y="5715000"/>
            <a:ext cx="69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nquery.ushmm.org/uia-cgi/uia_doc/query/69?uf=uia_egTq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90840" y="1633680"/>
            <a:ext cx="5962320" cy="3590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32160" y="6019920"/>
            <a:ext cx="628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eninimports.com/sandro_botticelli_gallery_94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99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dro Botticelli The Punishment of Korah (1481-1482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209680" y="1066680"/>
            <a:ext cx="4648320" cy="4513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063160" y="6095880"/>
            <a:ext cx="51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obullying.ca/images/bystanderSH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Adrienne Sloane"/>
          <p:cNvPicPr/>
          <p:nvPr/>
        </p:nvPicPr>
        <p:blipFill>
          <a:blip r:embed="rId2"/>
          <a:stretch/>
        </p:blipFill>
        <p:spPr>
          <a:xfrm>
            <a:off x="2362320" y="609480"/>
            <a:ext cx="6191280" cy="4038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3048120" y="5105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rienne Sloa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en warp 14 pieces, machine knit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47600" y="6498720"/>
            <a:ext cx="3141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3"/>
              </a:rPr>
              <a:t>http://www.adriennesloane.com/homepage.htm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adriennesloane.com/images/bimage/sloane_truth%20to%20power%20copy.jpg"/>
          <p:cNvPicPr/>
          <p:nvPr/>
        </p:nvPicPr>
        <p:blipFill>
          <a:blip r:embed="rId2"/>
          <a:stretch/>
        </p:blipFill>
        <p:spPr>
          <a:xfrm>
            <a:off x="4419720" y="228600"/>
            <a:ext cx="4343400" cy="6356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www.adriennesloane.com/images/bimage/sloane_%20truth%20to%20power%20det%20copy.gif"/>
          <p:cNvPicPr/>
          <p:nvPr/>
        </p:nvPicPr>
        <p:blipFill>
          <a:blip r:embed="rId3"/>
          <a:stretch/>
        </p:blipFill>
        <p:spPr>
          <a:xfrm>
            <a:off x="228600" y="914400"/>
            <a:ext cx="4038480" cy="26859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1482840" y="396252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rienne slo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uth to Po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04800" y="6498720"/>
            <a:ext cx="3141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4"/>
              </a:rPr>
              <a:t>http://www.adriennesloane.com/homepage.htm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fcit.coedu.usf.edu/holocaust/gifsf2/dacb03.jpg"/>
          <p:cNvPicPr/>
          <p:nvPr/>
        </p:nvPicPr>
        <p:blipFill>
          <a:blip r:embed="rId2"/>
          <a:stretch/>
        </p:blipFill>
        <p:spPr>
          <a:xfrm>
            <a:off x="0" y="762120"/>
            <a:ext cx="9043920" cy="37335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2209680" y="4572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iew of the International monument by Yugoslav sculptor Glid Nandor, 1968. Nandor spent time in a forced labor camp during the war and later fought with the Yugoslav partisans. Other memorials by Nandor may be seen at the Mauthausen camp and in Subotica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600200" y="648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fcit.coedu.usf.edu/holocaust/GALLFR2/DACB03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fcit.coedu.usf.edu/holocaust/gifsf2/dacb04.jpg"/>
          <p:cNvPicPr/>
          <p:nvPr/>
        </p:nvPicPr>
        <p:blipFill>
          <a:blip r:embed="rId2"/>
          <a:stretch/>
        </p:blipFill>
        <p:spPr>
          <a:xfrm>
            <a:off x="1143000" y="914400"/>
            <a:ext cx="6667560" cy="46674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1828800" y="64119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fcit.coedu.usf.edu/holocaust/GALLFR2/DACB03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www.mcs.csuhayward.edu/~malek/chagal2.jpg"/>
          <p:cNvPicPr/>
          <p:nvPr/>
        </p:nvPicPr>
        <p:blipFill>
          <a:blip r:embed="rId2"/>
          <a:stretch/>
        </p:blipFill>
        <p:spPr>
          <a:xfrm>
            <a:off x="3533760" y="76320"/>
            <a:ext cx="5457960" cy="62830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770040" y="2286000"/>
            <a:ext cx="182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rc Chag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ite Crucifix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64882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mcs.csuhayward.edu/~malek/Chagal2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fcit.coedu.usf.edu/holocaust/gifsf2/fausc40.jpg"/>
          <p:cNvPicPr/>
          <p:nvPr/>
        </p:nvPicPr>
        <p:blipFill>
          <a:blip r:embed="rId2"/>
          <a:stretch/>
        </p:blipFill>
        <p:spPr>
          <a:xfrm>
            <a:off x="876240" y="914400"/>
            <a:ext cx="8001000" cy="4800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198108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eczyslaw Stobiers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5110560" y="38088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Starvation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fcit.coedu.usf.edu/holocaust/gifsf2/dacb12.jpg"/>
          <p:cNvPicPr/>
          <p:nvPr/>
        </p:nvPicPr>
        <p:blipFill>
          <a:blip r:embed="rId2"/>
          <a:stretch/>
        </p:blipFill>
        <p:spPr>
          <a:xfrm>
            <a:off x="3962520" y="609480"/>
            <a:ext cx="401004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0" y="62118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fcit.coedu.usf.edu/holocaust/GALLFR2/dacb12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198108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ue by Fritz Koell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en Toten zue Ehr den Lebenden sur Mahnung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To honor the dead and warn the living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3:06:42Z</dcterms:created>
  <dc:creator>Anita Marie Rubino-Thomas</dc:creator>
  <dc:description/>
  <dc:language>en-US</dc:language>
  <cp:lastModifiedBy>Administrator</cp:lastModifiedBy>
  <dcterms:modified xsi:type="dcterms:W3CDTF">2008-12-05T13:56:52Z</dcterms:modified>
  <cp:revision>23</cp:revision>
  <dc:subject/>
  <dc:title>Slide 1</dc:title>
</cp:coreProperties>
</file>